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F8F0-6586-41DA-9B00-407063B7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3670-05FA-4DAC-BC99-BB4982F9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FA3C-DC6D-4C1A-92B8-565A20BD0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7B68-923E-45AA-9866-28A7DF970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084A-870B-4F5D-B06E-E130C28F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7D6E-7F0F-40F3-8917-0D089527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F844-90EB-468B-B3CF-A47EBE48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BBD3-EF79-4448-BCBA-4B5465BD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626A-0CC2-4541-9D46-BB33DF82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6455-1C6D-4B46-8E6A-A3DB0429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3AE4-A867-458A-BA70-EA3FB5F9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4443-216B-4E8B-9F2F-C7F19817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C014-9D64-474D-8DC6-4B309BF112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304920" y="1981080"/>
            <a:ext cx="4876560" cy="42674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Disciplinary Core Ide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AL SCI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S1:  Matter and Its Inte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S2:  Motion and Stability:  Forces and Inte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S3: 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S4:  Waves and Their Applications in Technologies for Information Transf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SCI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S1:  From Molecules to Organisms:  Structures and Proce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S2:  Ecosystems:  Interactions, Energy, and Dynam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S3:  Heredity:  Inheritance and Variation of Tra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S4:  Biological Evolution:  Unity and Diver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AND SPACE SCI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1:  Earth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Place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2:  Earth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3:  Earth and Human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INEERING, TECHNOLOGY, AND APPLICATIONS OF SCI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TS1:  Engineering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TS2:  Links Among Engineering, Technology, Science, and Socie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90840" y="456840"/>
            <a:ext cx="5407200" cy="19810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Science and Engineering Practi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Asking Questions (for science) and Defining Problems (for engineering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Developing and Using Mode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 Planning and Carrying Out Investiga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 Analyzing and Interpreting Dat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 Using Mathematics and Computational Think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 Constructing Explanations (for science) and Designing Solutions (for engineering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 Engaging in Argument from Eviden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 Obtaining, Evaluating, and Communicating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33520" y="423720"/>
            <a:ext cx="2286000" cy="1100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4" name="Title 1"/>
          <p:cNvSpPr/>
          <p:nvPr/>
        </p:nvSpPr>
        <p:spPr>
          <a:xfrm>
            <a:off x="4724280" y="4191120"/>
            <a:ext cx="3657600" cy="18288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Crosscutting Concep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Cause and Effect:  Mechanisms and Expla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Scale, Proportion, and Quant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Systems and System Mod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Energy and Matter:  Flows, Cycles, and Con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Structure and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tability and Ch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5334120" y="31194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ww.nextgenscience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3T18:56:41Z</dcterms:created>
  <dc:creator>Willcuts, Peggy M (Meredith)</dc:creator>
  <dc:description/>
  <dc:language>en-US</dc:language>
  <cp:lastModifiedBy>Microsoft Office User</cp:lastModifiedBy>
  <cp:lastPrinted>2016-02-04T21:40:52Z</cp:lastPrinted>
  <dcterms:modified xsi:type="dcterms:W3CDTF">2016-02-04T21:41:11Z</dcterms:modified>
  <cp:revision>13</cp:revision>
  <dc:subject/>
  <dc:title>Scientific and Engineering Practices</dc:title>
</cp:coreProperties>
</file>